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1FD-0EC2-41DC-B557-1A49B37A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9D7-9BEF-48B3-9247-1A275DA8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EC0-D683-4ACE-B65F-D3EC6ABC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7A1-622D-4635-8DBC-DCE8218C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E28-8CCE-46CF-A85F-70465D54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DD2-D848-46F0-A7B8-57A2DB0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337-7C9D-4FBC-84E0-1CC318F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ACC-02D3-4B3F-8A5B-0641CE2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CA4-441F-4DCD-A73C-C0E73C17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D52-6D13-4D36-B2B4-1E8F5066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F70-F887-411A-AACD-B70A5E1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8D0-4EA7-43C5-9CC4-41C6D69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1BCC-0F1B-4D70-9F48-11FD1A9C4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422280" y="3727440"/>
            <a:ext cx="4140360" cy="648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608" h="4">
                <a:moveTo>
                  <a:pt x="2608" y="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5"/>
          <p:cNvSpPr/>
          <p:nvPr/>
        </p:nvSpPr>
        <p:spPr>
          <a:xfrm>
            <a:off x="4579920" y="112680"/>
            <a:ext cx="2341440" cy="3637080"/>
          </a:xfrm>
          <a:custGeom>
            <a:avLst/>
            <a:gdLst>
              <a:gd name="textAreaLeft" fmla="*/ 0 w 2341440"/>
              <a:gd name="textAreaRight" fmla="*/ 2341800 w 234144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1475" h="2291">
                <a:moveTo>
                  <a:pt x="0" y="2291"/>
                </a:moveTo>
                <a:lnTo>
                  <a:pt x="1475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2"/>
          <p:cNvSpPr/>
          <p:nvPr/>
        </p:nvSpPr>
        <p:spPr>
          <a:xfrm>
            <a:off x="4557600" y="3713040"/>
            <a:ext cx="3573720" cy="25196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251" h="1587">
                <a:moveTo>
                  <a:pt x="0" y="0"/>
                </a:moveTo>
                <a:lnTo>
                  <a:pt x="2251" y="158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60" y="-92880"/>
            <a:ext cx="22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781440" y="2916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52280" y="2514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й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rc 9"/>
          <p:cNvSpPr/>
          <p:nvPr/>
        </p:nvSpPr>
        <p:spPr>
          <a:xfrm>
            <a:off x="5029200" y="3048120"/>
            <a:ext cx="304920" cy="1218960"/>
          </a:xfrm>
          <a:custGeom>
            <a:avLst/>
            <a:gdLst>
              <a:gd name="textAreaLeft" fmla="*/ 0 w 304920"/>
              <a:gd name="textAreaRight" fmla="*/ 305280 w 304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65120" y="4950000"/>
            <a:ext cx="8359920" cy="14040"/>
          </a:xfrm>
          <a:custGeom>
            <a:avLst/>
            <a:gdLst>
              <a:gd name="textAreaLeft" fmla="*/ 0 w 8359920"/>
              <a:gd name="textAreaRight" fmla="*/ 8360280 w 8359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5266" h="9">
                <a:moveTo>
                  <a:pt x="0" y="0"/>
                </a:moveTo>
                <a:lnTo>
                  <a:pt x="5266" y="9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581040" y="3048120"/>
            <a:ext cx="3943440" cy="1890720"/>
          </a:xfrm>
          <a:custGeom>
            <a:avLst/>
            <a:gdLst>
              <a:gd name="textAreaLeft" fmla="*/ 0 w 3943440"/>
              <a:gd name="textAreaRight" fmla="*/ 3943800 w 3943440"/>
              <a:gd name="textAreaTop" fmla="*/ 0 h 1890720"/>
              <a:gd name="textAreaBottom" fmla="*/ 1891080 h 1890720"/>
            </a:gdLst>
            <a:ahLst/>
            <a:rect l="textAreaLeft" t="textAreaTop" r="textAreaRight" b="textAreaBottom"/>
            <a:pathLst>
              <a:path w="2484" h="1191">
                <a:moveTo>
                  <a:pt x="0" y="0"/>
                </a:moveTo>
                <a:lnTo>
                  <a:pt x="2484" y="1191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60" y="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364120" y="41450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1"/>
          <p:cNvSpPr/>
          <p:nvPr/>
        </p:nvSpPr>
        <p:spPr>
          <a:xfrm>
            <a:off x="4114800" y="3505320"/>
            <a:ext cx="83808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711360" y="3933720"/>
            <a:ext cx="7503840" cy="14400"/>
          </a:xfrm>
          <a:custGeom>
            <a:avLst/>
            <a:gdLst>
              <a:gd name="textAreaLeft" fmla="*/ 0 w 7503840"/>
              <a:gd name="textAreaRight" fmla="*/ 7504200 w 7503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727" h="9">
                <a:moveTo>
                  <a:pt x="0" y="9"/>
                </a:moveTo>
                <a:lnTo>
                  <a:pt x="4727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4543560" y="479520"/>
            <a:ext cx="14040" cy="5979960"/>
          </a:xfrm>
          <a:custGeom>
            <a:avLst/>
            <a:gdLst>
              <a:gd name="textAreaLeft" fmla="*/ 0 w 14040"/>
              <a:gd name="textAreaRight" fmla="*/ 14400 w 14040"/>
              <a:gd name="textAreaTop" fmla="*/ 0 h 5979960"/>
              <a:gd name="textAreaBottom" fmla="*/ 5980320 h 5979960"/>
            </a:gdLst>
            <a:ahLst/>
            <a:rect l="textAreaLeft" t="textAreaTop" r="textAreaRight" b="textAreaBottom"/>
            <a:pathLst>
              <a:path w="9" h="3767">
                <a:moveTo>
                  <a:pt x="9" y="0"/>
                </a:moveTo>
                <a:lnTo>
                  <a:pt x="0" y="3767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160" y="-92880"/>
            <a:ext cx="21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1120" y="2428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447920" y="2437200"/>
            <a:ext cx="65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24240" y="4144320"/>
            <a:ext cx="60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6"/>
          <p:cNvSpPr/>
          <p:nvPr/>
        </p:nvSpPr>
        <p:spPr>
          <a:xfrm>
            <a:off x="5181480" y="3513240"/>
            <a:ext cx="3497400" cy="144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03" h="1">
                <a:moveTo>
                  <a:pt x="0" y="0"/>
                </a:moveTo>
                <a:lnTo>
                  <a:pt x="2203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5181480" y="609480"/>
            <a:ext cx="1135080" cy="293868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2938680"/>
              <a:gd name="textAreaBottom" fmla="*/ 2938680 h 2938680"/>
            </a:gdLst>
            <a:ahLst/>
            <a:rect l="textAreaLeft" t="textAreaTop" r="textAreaRight" b="textAreaBottom"/>
            <a:pathLst>
              <a:path w="715" h="1851">
                <a:moveTo>
                  <a:pt x="0" y="1851"/>
                </a:moveTo>
                <a:lnTo>
                  <a:pt x="71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1465200" y="3513240"/>
            <a:ext cx="3730680" cy="1320840"/>
          </a:xfrm>
          <a:custGeom>
            <a:avLst/>
            <a:gdLst>
              <a:gd name="textAreaLeft" fmla="*/ 0 w 3730680"/>
              <a:gd name="textAreaRight" fmla="*/ 3730680 w 37306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2350" h="832">
                <a:moveTo>
                  <a:pt x="2350" y="0"/>
                </a:moveTo>
                <a:lnTo>
                  <a:pt x="0" y="83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0" y="-9216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800" y="2460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rc 17"/>
          <p:cNvSpPr/>
          <p:nvPr/>
        </p:nvSpPr>
        <p:spPr>
          <a:xfrm>
            <a:off x="5486400" y="2819520"/>
            <a:ext cx="380880" cy="685800"/>
          </a:xfrm>
          <a:custGeom>
            <a:avLst/>
            <a:gdLst>
              <a:gd name="textAreaLeft" fmla="*/ 0 w 380880"/>
              <a:gd name="textAreaRight" fmla="*/ 381240 w 380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8"/>
          <p:cNvSpPr/>
          <p:nvPr/>
        </p:nvSpPr>
        <p:spPr>
          <a:xfrm flipH="1">
            <a:off x="4572000" y="2819520"/>
            <a:ext cx="838080" cy="9144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281240" y="46260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105520" y="35053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54680" y="3581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8367840" y="34034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539040" y="2062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762120" y="54864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1066680" y="554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BD 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1066680" y="563868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7"/>
              <p:cNvSpPr txBox="1"/>
              <p:nvPr/>
            </p:nvSpPr>
            <p:spPr>
              <a:xfrm>
                <a:off x="3733920" y="5638680"/>
                <a:ext cx="7617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9"/>
          <p:cNvSpPr/>
          <p:nvPr/>
        </p:nvSpPr>
        <p:spPr>
          <a:xfrm>
            <a:off x="4344480" y="5562720"/>
            <a:ext cx="36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BC = 20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 rot="18199200">
            <a:off x="4647600" y="1218960"/>
            <a:ext cx="23623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957240" y="3338640"/>
            <a:ext cx="4064040" cy="14040"/>
          </a:xfrm>
          <a:custGeom>
            <a:avLst/>
            <a:gdLst>
              <a:gd name="textAreaLeft" fmla="*/ 0 w 4064040"/>
              <a:gd name="textAreaRight" fmla="*/ 4064400 w 4064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560" h="9">
                <a:moveTo>
                  <a:pt x="2560" y="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5021280" y="449280"/>
            <a:ext cx="1946160" cy="2889360"/>
          </a:xfrm>
          <a:custGeom>
            <a:avLst/>
            <a:gdLst>
              <a:gd name="textAreaLeft" fmla="*/ 0 w 1946160"/>
              <a:gd name="textAreaRight" fmla="*/ 1946160 w 1946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226" h="1820">
                <a:moveTo>
                  <a:pt x="0" y="1820"/>
                </a:moveTo>
                <a:lnTo>
                  <a:pt x="1226" y="0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964040" y="3338640"/>
            <a:ext cx="2684520" cy="2786040"/>
          </a:xfrm>
          <a:custGeom>
            <a:avLst/>
            <a:gdLst>
              <a:gd name="textAreaLeft" fmla="*/ 0 w 2684520"/>
              <a:gd name="textAreaRight" fmla="*/ 2684880 w 268452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1691" h="1755">
                <a:moveTo>
                  <a:pt x="0" y="0"/>
                </a:moveTo>
                <a:lnTo>
                  <a:pt x="1691" y="1755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28600" y="2286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960" y="4983120"/>
            <a:ext cx="91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rc 22"/>
          <p:cNvSpPr/>
          <p:nvPr/>
        </p:nvSpPr>
        <p:spPr>
          <a:xfrm>
            <a:off x="5410080" y="2668680"/>
            <a:ext cx="76320" cy="1226880"/>
          </a:xfrm>
          <a:custGeom>
            <a:avLst/>
            <a:gdLst>
              <a:gd name="textAreaLeft" fmla="*/ 0 w 76320"/>
              <a:gd name="textAreaRight" fmla="*/ 76320 w 763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fill="none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</a:path>
              <a:path stroke="0" w="21600" h="2676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339"/>
                  <a:pt x="21389" y="25072"/>
                  <a:pt x="20974" y="26762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3886200" y="3276720"/>
            <a:ext cx="609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"/>
          <p:cNvSpPr/>
          <p:nvPr/>
        </p:nvSpPr>
        <p:spPr>
          <a:xfrm>
            <a:off x="536400" y="3801960"/>
            <a:ext cx="7548840" cy="1800"/>
          </a:xfrm>
          <a:custGeom>
            <a:avLst/>
            <a:gdLst>
              <a:gd name="textAreaLeft" fmla="*/ 0 w 7548840"/>
              <a:gd name="textAreaRight" fmla="*/ 7549200 w 7548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55" h="1">
                <a:moveTo>
                  <a:pt x="0" y="0"/>
                </a:moveTo>
                <a:lnTo>
                  <a:pt x="4755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4484520" y="770040"/>
            <a:ext cx="14400" cy="5718240"/>
          </a:xfrm>
          <a:custGeom>
            <a:avLst/>
            <a:gdLst>
              <a:gd name="textAreaLeft" fmla="*/ 0 w 14400"/>
              <a:gd name="textAreaRight" fmla="*/ 14760 w 14400"/>
              <a:gd name="textAreaTop" fmla="*/ 0 h 5718240"/>
              <a:gd name="textAreaBottom" fmla="*/ 5718600 h 5718240"/>
            </a:gdLst>
            <a:ahLst/>
            <a:rect l="textAreaLeft" t="textAreaTop" r="textAreaRight" b="textAreaBottom"/>
            <a:pathLst>
              <a:path w="9" h="3602">
                <a:moveTo>
                  <a:pt x="0" y="0"/>
                </a:moveTo>
                <a:lnTo>
                  <a:pt x="9" y="3602"/>
                </a:lnTo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06000" y="-1080"/>
            <a:ext cx="19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59960" y="1957320"/>
            <a:ext cx="46051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360" y="3750480"/>
            <a:ext cx="846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03-17T10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